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1C76-466F-4E63-95EF-58408889D96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BF52-F799-46CB-BC9A-E6FBD6A42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E6F0-4729-4B39-98EA-C81BB43E9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1A5D4-F792-4F11-B5FE-B232D4C52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D642E-DF86-4F7A-BDDD-9BC08A16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BAC462-6E3D-43B6-B5D7-DD55E06CC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86DD3-DEAB-4D43-A36D-488A2FD7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64876-BB3D-41BF-89E3-DABCA131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A19EF-27D5-4B56-8431-F39EEE0D3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0C6A9-900A-42A6-B932-FAB97A845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E1A4D0-65EB-412D-80EF-F0EC7375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94AEAF-C960-4C14-9CC8-32A36753C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3C25-2B63-4EC1-AB14-0A4D337F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7E872-0B7A-41E6-8CBB-630886CE3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F9793-8870-4576-9C54-5E959D45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7221C-8750-4867-81EE-21613358B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E5660-CA76-481B-A156-81215331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0A4CA-676D-41CC-8B65-32CA25F02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2B0DD7-C453-44F1-96EE-13F0F680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C0956D-EF78-4A22-9280-FA37C6732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419C10-F509-4752-A47D-EBA5D236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B8BC35-12A8-4FEB-ADD4-E8CA14EF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C67974-4FFE-422C-B841-6E4206DE0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2D1E-FAB5-4F7F-8BCB-956BD4CC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910CFE-55B5-4FDC-928B-12A740FB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299384-120B-46A3-9672-C659ADB0C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C81214-9538-4EEB-8DCE-B8616BCDD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518E54-490B-40D4-8A06-87C53809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342CE4-2953-46BC-A782-BF83A444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4CB69C-AEAB-49D9-8F9A-E4EB6D2B3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7AA6D7-DEFF-484A-89C2-1FB870CB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DE2E8-76A4-421F-BDD3-FC16B5ED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3D52F-0FAE-4290-BBE7-C983508E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E7830-DE19-4B13-ADDA-B340DB59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6443B-5825-402F-A9B0-07B0267F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12EE-7DE3-47A4-8FC4-D63C0625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B3D82-C3F4-40A2-9A0A-DDD908BE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FECD-1864-44CB-94E6-98453A287E54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F1A7-8341-483E-9DE7-A24DA8F0CFE3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A9BC-0088-4200-85F0-FAC5AB4C3E96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4D24-ADA9-495E-88CB-B81818AB449F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9FC44-89E1-4140-ACB7-2FA54C116F7D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28E0-7495-4455-81DE-EE01F4FC0C68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of Container Wago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4280" y="6093000"/>
            <a:ext cx="2654280" cy="461880"/>
            <a:chOff x="134280" y="6093000"/>
            <a:chExt cx="265428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400" y="6308640"/>
              <a:ext cx="26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_2015-01-20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4280" y="60930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cument title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402F-BAE7-4426-B91E-46FD9B2E4AC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20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B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9BC7-5BB8-44B3-A856-3F6D43C87FE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Textfeld 5"/>
          <p:cNvSpPr/>
          <p:nvPr/>
        </p:nvSpPr>
        <p:spPr>
          <a:xfrm rot="20397600">
            <a:off x="64339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22320" y="2255760"/>
            <a:ext cx="9883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 of results and comment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ssential aspect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ects intentionally left out of the analysis, the impact of which is as follows: (…)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y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 present value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ak-even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years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year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positive value:  revenue,    negative values: 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break-even:   number of years until the alternative option becomes advantageou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annuity:  average annual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E7B1-D4F8-4698-BD91-BF6D9E439D7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ponsible Departmen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tenance documentation 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Origi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riation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alternative option to basic op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y Performance Indicato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age between reprofiling wheel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E774-6D85-4A1F-9E15-55933390BAC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7" name="Textfeld 1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-and-loss chart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Delta of variant “B” in relation to variant “A” [= zero lin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3FF6-54BE-4B5F-A96D-DBEA063211DF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1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3" name="Picture 303" descr=""/>
          <p:cNvPicPr/>
          <p:nvPr/>
        </p:nvPicPr>
        <p:blipFill>
          <a:blip r:embed="rId1"/>
          <a:stretch/>
        </p:blipFill>
        <p:spPr>
          <a:xfrm>
            <a:off x="878040" y="1446120"/>
            <a:ext cx="8132760" cy="518976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4"/>
          <p:cNvSpPr/>
          <p:nvPr/>
        </p:nvSpPr>
        <p:spPr>
          <a:xfrm rot="20397600">
            <a:off x="62053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eak-even char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CEE9-584D-42CD-8FF9-F0100105EEB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Textfeld 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85978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recommended to purchase the container wagon made by company B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ed Option / Recommend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cause of the radial adjustability of the wheelsets, the wear rate of the wheels is lower and the lifetime of the wheels and the reprofiling cycle are therefore considerably lo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e to the higher quality of the container locks, maintenance expenditure is lower compared with the container wagon made by company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natory Statement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-even:     13 year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erage Annual Savings     (Delta Annuity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rify financial optio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condition for Implement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a purchase time schedule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tain approval from financial controlling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rther Procedure        Target Date / Responsibiliti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80C5-359F-4437-B4EC-5064D59D589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0" name="Textfeld 1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val 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73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mpiled by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74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Traceability of implementati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76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9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1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82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5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6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7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93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alidated by client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94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95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9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401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6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7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8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9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0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1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2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3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14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1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C3097-EDFB-40BD-86FD-74FAA2B0381B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6" name="Textfeld 49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chase of 85 new container flat wagons, each carrying 60’ in total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operator’s quality gate (filter) has been applied, only the container flat wagons of the two companies A and B remai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onsible for the LCC calculation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s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/09/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/01/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Life Cycle Costs of both remaining wagons are to be calculat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Client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rting 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tas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iginator of the LCC calculation, dat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7320" y="6419880"/>
            <a:ext cx="494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ed,  A = Agreed  D = Decided,  P = Preconditions in place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c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D          P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0ABD-F3AC-40DA-894A-FAE00FBCE12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 Framework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relevant / relevant, but not part of the 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ained in the 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rmined on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7004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7004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container locking 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5448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 replacement of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5448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ingle Sgns-type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53040" y="41162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76520" y="40766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-type 380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of other parts of the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consumption while operat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access charg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ading / unload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DB78-5C4C-4817-9991-59BC5E415DC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3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Breakdown Structure / System Environment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unted par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carriag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else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872800" y="4218840"/>
            <a:ext cx="179604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872800" y="5515920"/>
            <a:ext cx="181512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CA703-326C-4A87-A036-AC0173DB622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20"/>
          <p:cNvSpPr/>
          <p:nvPr/>
        </p:nvSpPr>
        <p:spPr>
          <a:xfrm rot="20397600">
            <a:off x="628164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61468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. Oper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703600" y="1944720"/>
            <a:ext cx="21780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1 Energ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2 Staf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3 Clean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4 Making avail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 Insurance /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6 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 Infrastructure u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 seg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b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track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ipment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04180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. Mainten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472520" y="1484280"/>
            <a:ext cx="233820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V. Product Failu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48480" y="1936800"/>
            <a:ext cx="21481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1  Product 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3  Malfunc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plann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1  Pro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3  Malfun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0160" y="1496880"/>
            <a:ext cx="2315880" cy="468180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chase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16080" y="1949400"/>
            <a:ext cx="211608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One-off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Recurrent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assembly 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ommissioning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116680" y="1936800"/>
            <a:ext cx="212868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0 “One-off” prepar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ection / Diagnostic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4 Condition-bas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7 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system for vehicl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CC cost blocks used for the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49400" y="6194520"/>
            <a:ext cx="65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)  For simplicity’s sake, the term “purchase” also comprises residual costs as well as disposal / further utilisation.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72880" y="2998800"/>
            <a:ext cx="218304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097600" y="4092480"/>
            <a:ext cx="2182680" cy="37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089680" y="31590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3011-95BF-4761-9FD2-6BEFE682931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Textfeld 15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pose &amp; brief description of each op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reduced maintenance expenditure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well-known characteristics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d to the existing wagon type, both the lifetime of the wheels and the reprofiling cycle are extended. The reliability of container lockings will be significantly improve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wer investment cost may result in maintenance expenditure being the same as today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8B5E-9435-4EF1-8E47-EA4A916D502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Textfeld 11"/>
          <p:cNvSpPr/>
          <p:nvPr/>
        </p:nvSpPr>
        <p:spPr>
          <a:xfrm rot="20397600">
            <a:off x="48337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nts: list of principal difference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 rate:                 10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 rate:                   3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 span of wagon:      25 year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nual mileage:          115,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nings are fixed and equivalent for both options. For this reason only the cost structure of the two options will be compar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rks concerning general assumptions for all options, comments and critical factor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wheelse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running gear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container loc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ance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container locks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BD80-079C-4984-812F-2A6FE6C0A0DC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Textfeld 20"/>
          <p:cNvSpPr/>
          <p:nvPr/>
        </p:nvSpPr>
        <p:spPr>
          <a:xfrm rot="20397600">
            <a:off x="55195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osition of Cost and Cycle Dat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,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,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92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container lock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18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9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rrective maintenance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profiling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7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50CE-64D1-4A6F-A809-74FB2DE66B1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2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68BB5-6D8A-458E-87F5-41B437ECBDF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Textfeld 4"/>
          <p:cNvSpPr/>
          <p:nvPr/>
        </p:nvSpPr>
        <p:spPr>
          <a:xfrm rot="20397600">
            <a:off x="59767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2320" y="2252520"/>
            <a:ext cx="9878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3T13:14:47Z</dcterms:modified>
  <cp:revision>83</cp:revision>
  <dc:subject/>
  <dc:title>Slide 0</dc:title>
</cp:coreProperties>
</file>